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7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A6BC-2955-463F-A30E-C448B7C32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01CC-2A14-48A7-9F4B-672EB77CB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87A3-8F64-4655-98E3-D462904C1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38E3-AE1F-4D94-8817-F47224C62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4FC86-62BE-4D39-8B5B-8AF355DC4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FFFB5-8886-4DD0-8356-FE13F40B0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C4338-902F-4288-B6EA-44F67DBD1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3FA3B-72D0-45C5-99B1-C78E10D87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8DF4C-C02B-4687-A346-87180B96A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5F97E-07CA-47B3-B55B-7D27FCB57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5466B-BA09-4C2C-9C9C-A51ABE8D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4056-E194-4EC9-A5ED-88DF6186C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F6938-CCC0-4874-9956-230DBF60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2A12D-BC71-46BC-986E-DD6F64F7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7F0FE-57C4-4E96-B30A-D383F0358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5E1A3-47A7-4991-9D06-A63342EB2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9D9C0-D4D9-405D-9ECE-D785C0F71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1AB2A3-E852-4422-90C3-368410697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9D8EBA-1CCD-4D65-A5B1-5803939E0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0DC5B9-6286-432B-81F5-BCBA36B7E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CB830D-A424-4A94-B798-AE34D9DF6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DF42F3-AD58-44BF-8195-2AFC1A7D4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EF7D-F6D1-46E8-B22A-954D08E7F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3DDB82-7948-46D5-9A5A-56CEBB081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82DD4B-E47E-4112-8493-01C8CCDE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DCD1E7-35FF-4964-89D9-CD826A07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4DC050-18E7-4DE5-B2EC-073D03F9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34944B-A816-4D00-AA84-3D5280869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07F34D-4B4D-4F07-BC74-A65C15429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649225-4430-4489-B09B-07ED47D66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30346-70A2-46A9-AF84-50DBD3396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E88BC-CC5F-480F-9F60-1C65E456E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15AD6-09AF-496E-B281-C1DA40078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A273-466A-4687-A821-EA18FAA95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02D0B-4820-42FA-B471-079B6DC7F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9DBE6-395A-4615-A0DC-8E5E995F4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0FEE1-E32A-48DB-B2B1-3DD97AD1A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17BB3-A37F-45BD-BE40-F28E57C8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81397-7CE4-46F9-998B-C37942A7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A1F0C-491D-4897-941D-2C8C322F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57147-C1E8-4097-B6F7-42F308CD1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ABCFE-1E8B-4148-B99C-033FDCBE3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C46DF-DC3F-472B-A980-FDDF2BC42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D8A9-84D6-43AB-B002-3798E9168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35E0-E206-43E1-9401-B6A517C22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5A3D-4AA7-4FE4-B4A0-86562126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4705-7EA4-4AFD-A0A6-8AAA229C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D808-6A3B-4A90-A962-655E84DF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Microsoft Sans Serif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Microsoft Sans Serif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Microsoft Sans Serif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C9A44-1D60-4773-AD5A-8D44407CFCE8}" type="slidenum">
              <a:rPr b="0" lang="en-US" sz="2400" spc="-1" strike="noStrike">
                <a:solidFill>
                  <a:srgbClr val="ffffff"/>
                </a:solidFill>
                <a:latin typeface="Microsoft Sans Serif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Microsoft Sans Serif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Microsoft Sans Serif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Microsoft Sans Serif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197D6-475A-405E-A6AA-77645C8B9F18}" type="slidenum">
              <a:rPr b="0" lang="en-US" sz="2400" spc="-1" strike="noStrike">
                <a:solidFill>
                  <a:srgbClr val="ffffff"/>
                </a:solidFill>
                <a:latin typeface="Microsoft Sans Serif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Microsoft Sans Serif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Microsoft Sans Serif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Microsoft Sans Serif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1F0A7-F559-4FC8-AE85-2FC83272FCB4}" type="slidenum">
              <a:rPr b="0" lang="en-US" sz="2400" spc="-1" strike="noStrike">
                <a:solidFill>
                  <a:srgbClr val="ffffff"/>
                </a:solidFill>
                <a:latin typeface="Microsoft Sans Serif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Microsoft Sans Serif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Microsoft Sans Serif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Microsoft Sans Serif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1245-DF4A-453A-BC7C-2AB02B4BC919}" type="slidenum">
              <a:rPr b="0" lang="en-US" sz="2400" spc="-1" strike="noStrike">
                <a:solidFill>
                  <a:srgbClr val="ffffff"/>
                </a:solidFill>
                <a:latin typeface="Microsoft Sans Serif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com/url?sa=i&amp;rct=j&amp;q=&amp;esrc=s&amp;frm=1&amp;source=images&amp;cd=&amp;cad=rja&amp;docid=rwMWPLlQ3nXfGM&amp;tbnid=12qTD16l8kHpgM:&amp;ved=0CAUQjRw&amp;url=http%3A%2F%2Fwww.city-data.com%2Fforum%2Fphotography%2F493951-balloons-hot-air-balloons-2.html&amp;ei=Wj41Uey4L5O40QGRkIC4CQ&amp;bvm=bv.43148975,d.dmQ&amp;psig=AFQjCNFhXrzpqKqTtYkZbe5dK9pJjVPAwA&amp;ust=1362530234704067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google.com/url?sa=i&amp;rct=j&amp;q=&amp;esrc=s&amp;frm=1&amp;source=images&amp;cd=&amp;cad=rja&amp;docid=BYwyKmzEJ9d9tM&amp;tbnid=lZTBywHJcXgl7M:&amp;ved=0CAUQjRw&amp;url=http%3A%2F%2Fwww.kalipedia.com%2Fecologia%2Ftema%2Fequivalencia-escalas.html%3Fx%3D20070924klpcnafyq_21.Kes%26ap%3D0&amp;ei=Fz81UbPdIeu30AGR0IDIDg&amp;bvm=bv.43148975,d.dmQ&amp;psig=AFQjCNGCuxyZsz9CxctAiIFS1wC7Oi9DVw&amp;ust=1362530445848583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om/url?sa=i&amp;rct=j&amp;q=&amp;esrc=s&amp;frm=1&amp;source=images&amp;cd=&amp;cad=rja&amp;docid=7_iZK3UNdpZ0SM&amp;tbnid=E8PCK6bM1Q2jKM:&amp;ved=0CAUQjRw&amp;url=http%3A%2F%2Fandeducation.co.uk%2FScience-Active%2Fmatterweb%2Fparticles.htm&amp;ei=lz01UcG6DIrL0wGQhoC4Bg&amp;bvm=bv.43148975,d.dmQ&amp;psig=AFQjCNFgEzdZ3JKyVsa-ligIvyhXBARoGQ&amp;ust=1362529989151435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m/url?sa=i&amp;rct=j&amp;q=&amp;esrc=s&amp;frm=1&amp;source=images&amp;cd=&amp;cad=rja&amp;docid=bxJ0Tjr3_ePdSM&amp;tbnid=LLzAoqUYOjJyNM:&amp;ved=0CAUQjRw&amp;url=http%3A%2F%2Fen.wikipedia.org%2Fwiki%2FBrownian_motion&amp;ei=wT81Udr_BurB0QHdv4CYAQ&amp;psig=AFQjCNF1bNZsM4ggpk6lcfDo2IHQDHyh-A&amp;ust=1362530607519517" TargetMode="Externa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britannica.com/EBchecked/media/95584/The-atmospheres-of-planets-in-the-solar-system-are-composed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hapter 10</a:t>
            </a:r>
            <a:endParaRPr b="0" lang="en-US" sz="44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Microsoft Sans Serif"/>
              </a:rPr>
              <a:t>The Kinetic Theory of Matter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Microsoft Sans Serif"/>
              </a:rPr>
              <a:t>Kinetic Models of Liquids and Solids</a:t>
            </a:r>
            <a:endParaRPr b="0" lang="en-US" sz="36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20210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Interparticle forces in a liquid maintain their volume, but not their shape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The particles of a liquid can slide past each other, but they are so close together that they don’t move straight or smooth.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trong forces between particles explain the rigid structure of solids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This arrangement is called a crystal lattice</a:t>
            </a:r>
            <a:r>
              <a:rPr b="0" i="1" lang="en-US" sz="2600" spc="-1" strike="noStrike">
                <a:solidFill>
                  <a:srgbClr val="000000"/>
                </a:solidFill>
                <a:latin typeface="Microsoft Sans Serif"/>
              </a:rPr>
              <a:t>.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Particles of a solid cannot move past each other, but they bounce off of one another.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Other Forms of Matter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8684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Materials called liquid crystals lose their rigid organization in only one or two dimensions when they melt.</a:t>
            </a:r>
            <a:endParaRPr b="0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Interparticle forces are relatively weak, and they can flow like a liquid when the lattice is broken.</a:t>
            </a:r>
            <a:endParaRPr b="0" lang="en-US" sz="2400" spc="-1" strike="noStrike">
              <a:solidFill>
                <a:srgbClr val="438086"/>
              </a:solidFill>
              <a:latin typeface="Microsoft Sans Serif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An amorphous materia</a:t>
            </a:r>
            <a:r>
              <a:rPr b="0" i="1" lang="en-US" sz="2600" spc="-1" strike="noStrike">
                <a:solidFill>
                  <a:srgbClr val="000000"/>
                </a:solidFill>
                <a:latin typeface="Microsoft Sans Serif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 has a haphazard, disjointed, and incomplete crystal lattice.</a:t>
            </a:r>
            <a:endParaRPr b="0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A plasma is an ionized gas.</a:t>
            </a:r>
            <a:endParaRPr b="0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It can conduct electrical current, but it is electrically neutral.</a:t>
            </a:r>
            <a:endParaRPr b="0" lang="en-US" sz="2400" spc="-1" strike="noStrike">
              <a:solidFill>
                <a:srgbClr val="438086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Pre-Class Question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Why is the air inside a hot air balloon heated?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241" name="Picture 5" descr="http://www.city-data.com/forum/attachments/photography/44958d1247413674-balloons-hot-air-balloons-balloon-pics-03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3200400"/>
            <a:ext cx="402732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Temperature and Kinetic Energy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he temperature of a material is a measure of the average kinetic energy of particles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As temperature increases, kinetic energy also increases and vice versa.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Could kinetic energy ever be zero?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The temperature at which a substance would have zero kinetic energy is called absolute zero.</a:t>
            </a:r>
            <a:endParaRPr b="0" lang="en-US" sz="2400" spc="-1" strike="noStrike">
              <a:solidFill>
                <a:srgbClr val="53548a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The Kelvin scale is defined so that the temperature of a substance is directly proportional to the average kinetic energy of the particles.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Temperature Conversions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Kelvin to Celsius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Celsius = Kelvin - 273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Celsius to Kelvin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Kelvin = Celsius + 273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</p:txBody>
      </p:sp>
      <p:pic>
        <p:nvPicPr>
          <p:cNvPr id="246" name="Picture 5" descr="http://www.kalipedia.com/kalipediamedia/cienciasnaturales/media/200709/24/fisicayquimica/20070924klpcnafyq_8.Ees.SCO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2209680"/>
            <a:ext cx="4038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Mass, Speed and Kinetic Energy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20210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993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wo gases at the same temperature will have the same kinetic energy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993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If the gases have the same mass, then they will also travel at the same speed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993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If one gas is lighter than the other, the lighter gas will travel faster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993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Microsoft Sans Serif"/>
            </a:endParaRPr>
          </a:p>
          <a:p>
            <a:pPr marL="993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Diffusion is the process by which particles of matter fill a space because of random motion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993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Heavier particles diffuse more slowly than lighter ones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993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993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Pre-Class Questions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What is the freezing point of water?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What is the melting point of ice?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251" name="Picture 5" descr="http://www.personalrefrigeration.co.uk/images/PR%20images/melting_ice_cubes.jpg"/>
          <p:cNvPicPr/>
          <p:nvPr/>
        </p:nvPicPr>
        <p:blipFill>
          <a:blip r:embed="rId1"/>
          <a:stretch/>
        </p:blipFill>
        <p:spPr>
          <a:xfrm>
            <a:off x="3657600" y="3352680"/>
            <a:ext cx="506736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Change of State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Evaporation is the process by which particles of a liquid form a gas by escaping from the surface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The area of the surface, temperature, and humidity affect the rate of evaporation.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Liquids that evaporate quickly are volatile.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he process by which particles of a solid escape from its surface and form a gas is called sublimation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254" name="Picture 5" descr="http://www.aboutcivil.org/imajes/evaporation.jpg"/>
          <p:cNvPicPr/>
          <p:nvPr/>
        </p:nvPicPr>
        <p:blipFill>
          <a:blip r:embed="rId1"/>
          <a:stretch/>
        </p:blipFill>
        <p:spPr>
          <a:xfrm>
            <a:off x="4168800" y="4724280"/>
            <a:ext cx="3809880" cy="19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Change of State Continued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8684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Condensation is the process of gas particles coming closer together (condense) and form a liquid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he pressure of a substance in equilibrium with it’s liquid is called its vapor pressure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Volatile substances have high vapor pressures.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The boiling point of a substance is the temperature of a substance when its vapor pressure equals the pressure exerted on the surface of the liquid (atmospheric pressure).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Heat Energy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8684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he energy absorbed when 1 kg of a liquid vaporizes at its normal boiling point is called its heat of vaporization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The joule is the SI unit of energy.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Heat of vaporization for water is 2.26x10</a:t>
            </a:r>
            <a:r>
              <a:rPr b="0" lang="en-US" sz="2600" spc="-1" strike="noStrike" baseline="30000">
                <a:solidFill>
                  <a:srgbClr val="000000"/>
                </a:solidFill>
                <a:latin typeface="Microsoft Sans Serif"/>
              </a:rPr>
              <a:t>6</a:t>
            </a: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Joules/kg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Burns from steam are usually more severe than burns received form hot water.  This is because the steam transfers a great deal of heat to the skin when it condenses.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Pre-Class Question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Look at the two containers of liquid.  Which container has the greater volume of liquid?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Look at the two balloons.  Which balloon has the greater volume of gas?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Heat of Vaporization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How much heat is absorbed by 300k of water as it vaporizes at 10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Microsoft Sans Serif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c?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Heat Energy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8684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he melting point is the temperature of the solid when its crystal lattice begins to fall apart to become a liquid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he temperature of a liquid when it begins to form a crystal lattice and becomes a solid is called its freezing point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44040" indent="-24120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The energy released as 1 kg of a substance solidifies at its freezing point is called its heat of fusion.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  <a:p>
            <a:pPr lvl="1" marL="644040" indent="-24120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The heat of fusion for water is 3.34x10</a:t>
            </a:r>
            <a:r>
              <a:rPr b="0" lang="en-US" sz="2600" spc="-1" strike="noStrike" baseline="30000">
                <a:solidFill>
                  <a:srgbClr val="000000"/>
                </a:solidFill>
                <a:latin typeface="Microsoft Sans Serif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Joules/kg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  <a:p>
            <a:pPr lvl="1" marL="644040" indent="-24120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Heat of fusion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How much heat is released by 2.3Kg of water as it solidifies at its freezing point?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Change of State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pic>
        <p:nvPicPr>
          <p:cNvPr id="266" name="Content Placeholder 3" descr=""/>
          <p:cNvPicPr/>
          <p:nvPr/>
        </p:nvPicPr>
        <p:blipFill>
          <a:blip r:embed="rId1"/>
          <a:srcRect l="1546" t="2937" r="13323" b="2674"/>
          <a:stretch/>
        </p:blipFill>
        <p:spPr>
          <a:xfrm>
            <a:off x="6172200" y="685800"/>
            <a:ext cx="2755800" cy="29275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" descr=""/>
          <p:cNvPicPr/>
          <p:nvPr/>
        </p:nvPicPr>
        <p:blipFill>
          <a:blip r:embed="rId2"/>
          <a:stretch/>
        </p:blipFill>
        <p:spPr>
          <a:xfrm>
            <a:off x="101520" y="2666880"/>
            <a:ext cx="58802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Physical Behavior of Matter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here is a close relationship between the physical state of a substance and its temperature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You will discover that the state of any matter is determined by the motion of its particles and the attractive forces between them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States of Matter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868400"/>
            <a:ext cx="853452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A solid is rigid with a definite shape.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Solids are rigid because the atoms, ions, or molecules that make up a solid are fixed in place.</a:t>
            </a:r>
            <a:endParaRPr b="0" lang="en-US" sz="2000" spc="-1" strike="noStrike">
              <a:solidFill>
                <a:srgbClr val="438086"/>
              </a:solidFill>
              <a:latin typeface="Microsoft Sans Serif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A liquid is flowing matter with a definite volume but an indefinite shape.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A liquid takes the shape of its container because the particles of a liquid can move and easily glide over each other.</a:t>
            </a:r>
            <a:endParaRPr b="0" lang="en-US" sz="2000" spc="-1" strike="noStrike">
              <a:solidFill>
                <a:srgbClr val="438086"/>
              </a:solidFill>
              <a:latin typeface="Microsoft Sans Serif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A gas is flowing, compressible matter that has NO definite volume or shape.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he particles that make up a gas are much farther apart, so they can be easily pushed together.</a:t>
            </a:r>
            <a:endParaRPr b="0" lang="en-US" sz="2000" spc="-1" strike="noStrike">
              <a:solidFill>
                <a:srgbClr val="438086"/>
              </a:solidFill>
              <a:latin typeface="Microsoft Sans Serif"/>
            </a:endParaRPr>
          </a:p>
        </p:txBody>
      </p:sp>
      <p:pic>
        <p:nvPicPr>
          <p:cNvPr id="222" name="Picture 5" descr="http://andeducation.co.uk/Science-Active/matterweb/img0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95640" y="4876920"/>
            <a:ext cx="505116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The Kinetic Theory of Matter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533520" y="18684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he constant, random motion of tiny chunks of matter is called Brownian motion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he kinetic theory states that submicroscopic particles of matter are in constant, random motion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The energy of moving objects is called kinetic energy.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</p:txBody>
      </p:sp>
      <p:pic>
        <p:nvPicPr>
          <p:cNvPr id="225" name="Picture 5" descr="http://upload.wikimedia.org/wikipedia/commons/6/6d/Translational_motion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86200" y="5029200"/>
            <a:ext cx="193824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Kinetic Model of Gases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8684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Gas particles do not lose kinetic energy when they collide with the walls of their container or with another gas particle.</a:t>
            </a:r>
            <a:endParaRPr b="0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Each gas particle rebounds without losing speed but in a new direction.</a:t>
            </a:r>
            <a:endParaRPr b="0" lang="en-US" sz="2400" spc="-1" strike="noStrike">
              <a:solidFill>
                <a:srgbClr val="438086"/>
              </a:solidFill>
              <a:latin typeface="Microsoft Sans Serif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Collisions of particles in a gas are called elastic collisions because no kinetic energy is lost.</a:t>
            </a:r>
            <a:endParaRPr b="0" lang="en-US" sz="2400" spc="-1" strike="noStrike">
              <a:solidFill>
                <a:srgbClr val="438086"/>
              </a:solidFill>
              <a:latin typeface="Microsoft Sans Serif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A gas with particles that are in constant random motion but have no attraction for each other is called an ideal gas.</a:t>
            </a:r>
            <a:endParaRPr b="0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Ideal gases undergo elastic collisions.</a:t>
            </a:r>
            <a:endParaRPr b="0" lang="en-US" sz="2400" spc="-1" strike="noStrike">
              <a:solidFill>
                <a:srgbClr val="438086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Kinetic Model of Gases Continued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7924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Except at very low temperatures or very high pressures, nearly all real gases behave as ideal gases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The kinetic theory explains why gases fill their container and why they exert pressure on the walls of the container.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The gas particles move randomly in all directions until they strike the walls or other particles and bounce back.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Pre-Class Question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4472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ry to lift the mat off of the lab table in the back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Can you do it?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What force is acting on the mat?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232" name="Picture 5" descr="http://media-2.web.britannica.com/eb-media/98/74598-050-EAACFFD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3600" y="4419720"/>
            <a:ext cx="285768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114264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Microsoft Sans Serif"/>
              </a:rPr>
              <a:t>More on the Kinetic Model of Gases</a:t>
            </a:r>
            <a:endParaRPr b="0" lang="en-US" sz="4000" spc="-1" strike="noStrike">
              <a:solidFill>
                <a:srgbClr val="424456"/>
              </a:solidFill>
              <a:latin typeface="Microsoft Sans Serif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Pressure is the force acting on a unit area of a surface (the force per square centimeter)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Earth’s atmosphere, which is a mixture of gases, exerts a pressure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Atmospheric pressure is caused by the constant bombardment of the molecules and atoms in air.</a:t>
            </a:r>
            <a:endParaRPr b="0" lang="en-US" sz="2600" spc="-1" strike="noStrike">
              <a:solidFill>
                <a:srgbClr val="438086"/>
              </a:solidFill>
              <a:latin typeface="Microsoft Sans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4T23:23:40Z</dcterms:created>
  <dc:creator>Dawn</dc:creator>
  <dc:description/>
  <dc:language>en-US</dc:language>
  <cp:lastModifiedBy>Dawn</cp:lastModifiedBy>
  <dcterms:modified xsi:type="dcterms:W3CDTF">2014-05-11T22:44:16Z</dcterms:modified>
  <cp:revision>38</cp:revision>
  <dc:subject/>
  <dc:title>Chapter 10</dc:title>
</cp:coreProperties>
</file>